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29B2A-A862-467E-869E-2F80E37CF63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2105B-C986-47B9-B5C5-7F435238B2A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643E5-15F0-4A18-B8DE-3DC9BA4C003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D0325-C2CE-4213-87D7-2D0934A905A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73503-833A-4249-A1A8-1BCB7258CAE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AB705-5977-4B03-B3AE-DCEB1BD1269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9FB30-6B2D-448D-9FC3-D870332B000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EF92E-DE10-41A3-B9F1-98701CA49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23E72-52C5-4C93-B3F7-83BD9185C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A3EC3-DF55-4257-8865-3B32B4567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CF638-7660-41C5-90F8-9F4473394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3F10B-D52B-4EE2-AD55-C0B198681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92294-C0DB-4ABA-8A7F-A6C6E4567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360AD-2B45-4BC1-B450-922DB1B0C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476C1-802D-4C84-8A39-CAF962A89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380F3-4EB2-4BF8-9E5B-1E5D2F6A3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6F4A6-2C87-41A8-8557-C3E8456CD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69D6B-2ECE-4EC6-81D7-B48CAD009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62D24-833B-4491-9868-1F05D7D53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D33B0-8EF7-42EC-AF8D-E508C0A4A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2CC49-3F89-46F2-B9E8-30D894442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23E97-5296-4DCD-9287-9E0A8B501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90701-215A-4092-A758-FA095FA6C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73EEE-ACC0-48BD-B4B0-5D23E270F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E94EB-127F-4101-84CA-82C858685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E69CA-1769-4068-BEB8-14A5E7D59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B06F4-BBC7-44DF-9333-7B3F9B965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7A740-0EBB-4735-812C-300361194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D74DB-5DE1-4B5A-B09B-DC56A427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93CF4-1AF4-4573-A6FB-C811F214B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99282-105C-43D7-91BA-FA7DBACA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0E670-D463-4166-B5BE-72BC7C33EF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6CD1B-66D4-486E-B68F-55CB5BF7D4A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e5e5ff"/>
                </a:solidFill>
                <a:latin typeface="Arial"/>
              </a:rPr>
              <a:t>Крварење у стоматологиј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6920" y="4724280"/>
            <a:ext cx="7452000" cy="133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Доц.др Драгче Радовановић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emostasi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Stopping the bleeding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468360" y="2421000"/>
            <a:ext cx="6300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e5e5ff"/>
                </a:solidFill>
                <a:latin typeface="Garamond"/>
              </a:rPr>
              <a:t>-</a:t>
            </a:r>
            <a:r>
              <a:rPr b="0" lang="en-US" sz="3600" spc="-1" strike="noStrike">
                <a:solidFill>
                  <a:srgbClr val="e5e5ff"/>
                </a:solidFill>
                <a:latin typeface="Garamond"/>
              </a:rPr>
              <a:t>Direct pressur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e5e5ff"/>
                </a:solidFill>
                <a:latin typeface="Garamond"/>
              </a:rPr>
              <a:t>-</a:t>
            </a:r>
            <a:r>
              <a:rPr b="0" lang="en-US" sz="3600" spc="-1" strike="noStrike">
                <a:solidFill>
                  <a:srgbClr val="e5e5ff"/>
                </a:solidFill>
                <a:latin typeface="Garamond"/>
              </a:rPr>
              <a:t>More direct pressure. Pack. Pack. Pack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e5e5ff"/>
                </a:solidFill>
                <a:latin typeface="Garamond"/>
              </a:rPr>
              <a:t>-</a:t>
            </a:r>
            <a:r>
              <a:rPr b="0" lang="en-US" sz="3600" spc="-1" strike="noStrike">
                <a:solidFill>
                  <a:srgbClr val="e5e5ff"/>
                </a:solidFill>
                <a:latin typeface="Garamond"/>
              </a:rPr>
              <a:t>Electrocautery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e5e5ff"/>
                </a:solidFill>
                <a:latin typeface="Garamond"/>
              </a:rPr>
              <a:t>-</a:t>
            </a:r>
            <a:r>
              <a:rPr b="0" lang="en-US" sz="3600" spc="-1" strike="noStrike">
                <a:solidFill>
                  <a:srgbClr val="e5e5ff"/>
                </a:solidFill>
                <a:latin typeface="Garamond"/>
              </a:rPr>
              <a:t>Ligate vesse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emostasi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xidized regenerated cellulo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900000" y="2205000"/>
            <a:ext cx="457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e5e5ff"/>
                </a:solidFill>
                <a:uFillTx/>
                <a:latin typeface="Garamond"/>
              </a:rPr>
              <a:t>Surgic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e5ff"/>
                </a:solidFill>
                <a:latin typeface="Garamond"/>
                <a:ea typeface="Arial"/>
              </a:rPr>
              <a:t>Binds platelets and chemically precipitates fibri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1979640" y="4040280"/>
            <a:ext cx="6248520" cy="28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emostasi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crofibrillar colla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179280" y="2852640"/>
            <a:ext cx="4321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e5ff"/>
                </a:solidFill>
                <a:latin typeface="Garamond"/>
              </a:rPr>
              <a:t>Decellularized bovine sour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e5ff"/>
                </a:solidFill>
                <a:latin typeface="Garamond"/>
              </a:rPr>
              <a:t>Stimulates latelet adhes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e5ff"/>
                </a:solidFill>
                <a:latin typeface="Garamond"/>
              </a:rPr>
              <a:t>Stops venous ooz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e5ff"/>
                </a:solidFill>
                <a:latin typeface="Garamond"/>
              </a:rPr>
              <a:t>Absorbed in 90 day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4753080" y="1989000"/>
            <a:ext cx="439092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emostasi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brin glu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250920" y="2421000"/>
            <a:ext cx="5113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e5ff"/>
                </a:solidFill>
                <a:latin typeface="Garamond"/>
              </a:rPr>
              <a:t>Tise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e5ff"/>
                </a:solidFill>
                <a:latin typeface="Garamond"/>
              </a:rPr>
              <a:t>FDA approved in 1998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e5ff"/>
                </a:solidFill>
                <a:latin typeface="Garamond"/>
              </a:rPr>
              <a:t>Concentrated fibrinogen and f VII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e5ff"/>
                </a:solidFill>
                <a:latin typeface="Garamond"/>
              </a:rPr>
              <a:t>Thrombin and calciu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e5ff"/>
                </a:solidFill>
                <a:latin typeface="Garamond"/>
              </a:rPr>
              <a:t>Aprotinin to prevent clot dissolu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e5ff"/>
                </a:solidFill>
                <a:latin typeface="Garamond"/>
              </a:rPr>
              <a:t>Takes time to prepa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e5ff"/>
                </a:solidFill>
                <a:latin typeface="Garamond"/>
              </a:rPr>
              <a:t>Good for diffuse oozing, needle punctures, parenchymal injuri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4859280" y="1197000"/>
            <a:ext cx="39942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e5e5ff"/>
                </a:solidFill>
                <a:latin typeface="Arial"/>
              </a:rPr>
              <a:t>Крварење и хемостаз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 u="sng">
                <a:solidFill>
                  <a:srgbClr val="ffffff"/>
                </a:solidFill>
                <a:uFillTx/>
                <a:latin typeface="Arial"/>
              </a:rPr>
              <a:t>Трансфузија крви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 је преношење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крви или крвних продуката једне особе </a:t>
            </a:r>
            <a:r>
              <a:rPr b="1" lang="sr-CS" sz="2400" spc="-1" strike="noStrike">
                <a:solidFill>
                  <a:srgbClr val="ffffcc"/>
                </a:solidFill>
                <a:latin typeface="Arial"/>
              </a:rPr>
              <a:t>(даваоца)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у циркулацију друге особе </a:t>
            </a:r>
            <a:r>
              <a:rPr b="1" lang="sr-CS" sz="2400" spc="-1" strike="noStrike">
                <a:solidFill>
                  <a:srgbClr val="996600"/>
                </a:solidFill>
                <a:latin typeface="Arial"/>
              </a:rPr>
              <a:t>(примаоца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 u="sng">
                <a:solidFill>
                  <a:srgbClr val="ffffff"/>
                </a:solidFill>
                <a:uFillTx/>
                <a:latin typeface="Arial"/>
              </a:rPr>
              <a:t>Крвни продукти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цела кр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еритроцити (пренос кисеоника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тромбоцити (учествују у процесу коагулације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плазма (течни део крви без ћелија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концентровани фактори коагулациј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e5e5ff"/>
                </a:solidFill>
                <a:latin typeface="Arial"/>
              </a:rPr>
              <a:t>Крварење и хемостаз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57200" y="1600200"/>
          <a:ext cx="8229600" cy="4978440"/>
        </p:xfrm>
        <a:graphic>
          <a:graphicData uri="http://schemas.openxmlformats.org/drawingml/2006/table">
            <a:tbl>
              <a:tblPr/>
              <a:tblGrid>
                <a:gridCol w="956160"/>
                <a:gridCol w="216000"/>
                <a:gridCol w="2393640"/>
                <a:gridCol w="2975760"/>
                <a:gridCol w="812160"/>
                <a:gridCol w="875880"/>
              </a:tblGrid>
              <a:tr h="39888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996600"/>
                          </a:solidFill>
                          <a:latin typeface="Times New Roman"/>
                          <a:ea typeface="Arial"/>
                        </a:rPr>
                        <a:t>Крвне групе система АБО антиге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Аглутиногени у еритроцити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Изоаглутинини у серум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Учесталос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7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Arial"/>
                        </a:rPr>
                        <a:t>А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А и 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ни анти-А ни анти- 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7,28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89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Arial"/>
                        </a:rPr>
                        <a:t>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Анти-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42,2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8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Arial"/>
                        </a:rPr>
                        <a:t>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Анти - 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14,34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89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Arial"/>
                        </a:rPr>
                        <a:t>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ни А ни 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Анти-А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+A</a:t>
                      </a:r>
                      <a:r>
                        <a:rPr b="1" lang="sr-C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нти-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36.18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996600"/>
                          </a:solidFill>
                          <a:latin typeface="Times New Roman"/>
                          <a:ea typeface="Arial"/>
                        </a:rPr>
                        <a:t>Крвне групе система </a:t>
                      </a:r>
                      <a:r>
                        <a:rPr b="1" lang="en-US" sz="2400" spc="-1" strike="noStrike">
                          <a:solidFill>
                            <a:srgbClr val="996600"/>
                          </a:solidFill>
                          <a:latin typeface="Times New Roman"/>
                          <a:ea typeface="Arial"/>
                        </a:rPr>
                        <a:t>Rh </a:t>
                      </a:r>
                      <a:r>
                        <a:rPr b="1" lang="sr-CS" sz="2400" spc="-1" strike="noStrike">
                          <a:solidFill>
                            <a:srgbClr val="996600"/>
                          </a:solidFill>
                          <a:latin typeface="Times New Roman"/>
                          <a:ea typeface="Arial"/>
                        </a:rPr>
                        <a:t>антиген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Аглутиноген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Формирање антитела код инкопатибилне трансфузиј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6600"/>
                          </a:solidFill>
                          <a:latin typeface="Times New Roman"/>
                          <a:ea typeface="Arial"/>
                        </a:rPr>
                        <a:t>Rh 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Rh-D-</a:t>
                      </a:r>
                      <a:r>
                        <a:rPr b="1" lang="sr-C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антиге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Arial"/>
                        </a:rPr>
                        <a:t>anti-Rh-D имуних антител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8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6600"/>
                          </a:solidFill>
                          <a:latin typeface="Times New Roman"/>
                          <a:ea typeface="Arial"/>
                        </a:rPr>
                        <a:t>Rh 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нема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Rh-D-</a:t>
                      </a:r>
                      <a:r>
                        <a:rPr b="1" lang="sr-C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антиген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15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e5e5ff"/>
                </a:solidFill>
                <a:latin typeface="Arial"/>
              </a:rPr>
              <a:t>Крварење и хемостаз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Преко 400 антигена на еритроцитим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Крв се тестира на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996600"/>
                </a:solidFill>
                <a:latin typeface="Arial"/>
              </a:rPr>
              <a:t>-систем АБО антигена,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996600"/>
                </a:solidFill>
                <a:latin typeface="Arial"/>
              </a:rPr>
              <a:t>- систем </a:t>
            </a:r>
            <a:r>
              <a:rPr b="1" lang="en-US" sz="2000" spc="-1" strike="noStrike">
                <a:solidFill>
                  <a:srgbClr val="996600"/>
                </a:solidFill>
                <a:latin typeface="Arial"/>
              </a:rPr>
              <a:t>Rh </a:t>
            </a:r>
            <a:r>
              <a:rPr b="1" lang="sr-CS" sz="2000" spc="-1" strike="noStrike">
                <a:solidFill>
                  <a:srgbClr val="996600"/>
                </a:solidFill>
                <a:latin typeface="Arial"/>
              </a:rPr>
              <a:t>антигена,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996600"/>
                </a:solidFill>
                <a:latin typeface="Arial"/>
              </a:rPr>
              <a:t>- ирегуларна антитела (настају као одговор на имунизацију трансфузијом, трудноћом или трансплантацијом),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996600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996600"/>
                </a:solidFill>
                <a:latin typeface="Arial"/>
              </a:rPr>
              <a:t>HBS </a:t>
            </a:r>
            <a:r>
              <a:rPr b="1" lang="sr-CS" sz="2000" spc="-1" strike="noStrike">
                <a:solidFill>
                  <a:srgbClr val="996600"/>
                </a:solidFill>
                <a:latin typeface="Arial"/>
              </a:rPr>
              <a:t>антиген,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996600"/>
                </a:solidFill>
                <a:latin typeface="Arial"/>
              </a:rPr>
              <a:t>- анти-</a:t>
            </a:r>
            <a:r>
              <a:rPr b="1" lang="en-US" sz="2000" spc="-1" strike="noStrike">
                <a:solidFill>
                  <a:srgbClr val="996600"/>
                </a:solidFill>
                <a:latin typeface="Arial"/>
              </a:rPr>
              <a:t>HCV </a:t>
            </a:r>
            <a:r>
              <a:rPr b="1" lang="sr-CS" sz="2000" spc="-1" strike="noStrike">
                <a:solidFill>
                  <a:srgbClr val="996600"/>
                </a:solidFill>
                <a:latin typeface="Arial"/>
              </a:rPr>
              <a:t>антитела,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996600"/>
                </a:solidFill>
                <a:latin typeface="Arial"/>
              </a:rPr>
              <a:t>- анти-</a:t>
            </a:r>
            <a:r>
              <a:rPr b="1" lang="en-US" sz="2000" spc="-1" strike="noStrike">
                <a:solidFill>
                  <a:srgbClr val="996600"/>
                </a:solidFill>
                <a:latin typeface="Arial"/>
              </a:rPr>
              <a:t>HIV </a:t>
            </a:r>
            <a:r>
              <a:rPr b="1" lang="sr-CS" sz="2000" spc="-1" strike="noStrike">
                <a:solidFill>
                  <a:srgbClr val="996600"/>
                </a:solidFill>
                <a:latin typeface="Arial"/>
              </a:rPr>
              <a:t>антител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996600"/>
                </a:solidFill>
                <a:latin typeface="Arial"/>
              </a:rPr>
              <a:t>- антитела на </a:t>
            </a:r>
            <a:r>
              <a:rPr b="1" i="1" lang="sr-Latn-CS" sz="2000" spc="-1" strike="noStrike">
                <a:solidFill>
                  <a:srgbClr val="996600"/>
                </a:solidFill>
                <a:latin typeface="Arial"/>
              </a:rPr>
              <a:t>Treponemu pallidum</a:t>
            </a:r>
            <a:r>
              <a:rPr b="1" lang="en-US" sz="2000" spc="-1" strike="noStrike">
                <a:solidFill>
                  <a:srgbClr val="99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996600"/>
                </a:solidFill>
                <a:latin typeface="Arial"/>
              </a:rPr>
              <a:t>- антитела </a:t>
            </a:r>
            <a:r>
              <a:rPr b="1" lang="en-US" sz="2000" spc="-1" strike="noStrike">
                <a:solidFill>
                  <a:srgbClr val="996600"/>
                </a:solidFill>
                <a:latin typeface="Arial"/>
              </a:rPr>
              <a:t>HL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антигени леукоцита и тромбоцита – хумани леукоцитно систем)</a:t>
            </a:r>
            <a:r>
              <a:rPr b="1" lang="sr-C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e5e5ff"/>
                </a:solidFill>
                <a:latin typeface="Arial"/>
              </a:rPr>
              <a:t>Крварење и хемостаз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996600"/>
                </a:solidFill>
                <a:latin typeface="Arial"/>
              </a:rPr>
              <a:t>ТЕСТ КОМПАТИБИЛНОСТИ (УНАКРСНА ПРОБА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змеђу серума примаоца и еритроцита даваоца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у медијуму ниске јонске снаге (</a:t>
            </a:r>
            <a:r>
              <a:rPr b="1" i="1" lang="sr-CS" sz="2400" spc="-1" strike="noStrike">
                <a:solidFill>
                  <a:srgbClr val="ffffff"/>
                </a:solidFill>
                <a:latin typeface="Arial"/>
              </a:rPr>
              <a:t>Liss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)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који убрзава реакцију антиген-антител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996600"/>
                </a:solidFill>
                <a:latin typeface="Arial"/>
              </a:rPr>
              <a:t>АНТИ-ГЛОБУЛИН ТЕС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996600"/>
                </a:solidFill>
                <a:latin typeface="Arial"/>
              </a:rPr>
              <a:t>БИОЛОШКА ПРОБ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e5e5ff"/>
                </a:solidFill>
                <a:latin typeface="Arial"/>
              </a:rPr>
              <a:t>Крварење и хемостаз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539640" y="1197000"/>
          <a:ext cx="8136000" cy="5548320"/>
        </p:xfrm>
        <a:graphic>
          <a:graphicData uri="http://schemas.openxmlformats.org/drawingml/2006/table">
            <a:tbl>
              <a:tblPr/>
              <a:tblGrid>
                <a:gridCol w="1656000"/>
                <a:gridCol w="1974600"/>
                <a:gridCol w="2141640"/>
                <a:gridCol w="23637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Arial"/>
                        </a:rPr>
                        <a:t>ПРИМАЛАЦ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Arial"/>
                        </a:rPr>
                        <a:t>прима крв</a:t>
                      </a:r>
                      <a:r>
                        <a:rPr b="1" lang="sr-CS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Arial"/>
                        </a:rPr>
                        <a:t>изузетно прим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О крвна груп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А крвна група</a:t>
                      </a: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О крвна груп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Б крвна група</a:t>
                      </a: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О крвна груп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А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А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А, Б и О крвна груп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Arial"/>
                        </a:rPr>
                        <a:t>ПРИМАЛАЦ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Arial"/>
                        </a:rPr>
                        <a:t>прима крв</a:t>
                      </a:r>
                      <a:r>
                        <a:rPr b="1" lang="sr-CS" sz="2400" spc="-1" strike="noStrike">
                          <a:solidFill>
                            <a:srgbClr val="ffffcc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Arial"/>
                        </a:rPr>
                        <a:t>примио грешко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Rh-D 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Rh-D 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Rh-D 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Rh-D 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Rh-D -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Rh-D 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Arial"/>
                        </a:rPr>
                        <a:t>У 72 сата прима  </a:t>
                      </a: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Arial"/>
                        </a:rPr>
                        <a:t>anti-Rh-D </a:t>
                      </a:r>
                      <a:r>
                        <a:rPr b="1" lang="sr-CS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Arial"/>
                        </a:rPr>
                        <a:t>имуноглобулин (</a:t>
                      </a: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Arial"/>
                        </a:rPr>
                        <a:t>20 g za 1 ml Rh-D</a:t>
                      </a:r>
                      <a:r>
                        <a:rPr b="1" lang="sr-CS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Arial"/>
                        </a:rPr>
                        <a:t>+</a:t>
                      </a:r>
                      <a:r>
                        <a:rPr b="1" lang="sr-CS" sz="2000" spc="-1" strike="noStrike">
                          <a:solidFill>
                            <a:srgbClr val="ffffcc"/>
                          </a:solidFill>
                          <a:latin typeface="Times New Roman"/>
                          <a:ea typeface="Arial"/>
                        </a:rPr>
                        <a:t> еритроцита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e5e5ff"/>
                </a:solidFill>
                <a:latin typeface="Arial"/>
              </a:rPr>
              <a:t>Крварење и хемостаз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600" spc="-1" strike="noStrike">
                <a:solidFill>
                  <a:srgbClr val="ffffff"/>
                </a:solidFill>
                <a:latin typeface="Arial"/>
              </a:rPr>
              <a:t>Хитне ситуација – губитак крвног волумена већи од 30%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996600"/>
                </a:solidFill>
                <a:latin typeface="Arial"/>
              </a:rPr>
              <a:t>ЗАМЕНИЦИ ПЛАЗМЕ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996600"/>
                </a:solidFill>
                <a:latin typeface="Arial"/>
              </a:rPr>
              <a:t>ТРАНСФУЗИЈА КРВ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cc"/>
                </a:solidFill>
                <a:latin typeface="Arial"/>
              </a:rPr>
              <a:t>КРВ ОДГОВАРАЈУЋЕ КРВНЕ ГРУПЕ СА ПРОБОМ КОМПАТИБИЛНОСТИ ИЛИ СА ДЕЛИМИЧНО УРАЂЕНОМ ПРОБОМ КОМПАТИБИЛНОСТ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cc"/>
                </a:solidFill>
                <a:latin typeface="Arial"/>
              </a:rPr>
              <a:t>КРВ ОДГОВАРАЈУЋЕ КРВНЕ ГРУПЕ БЕЗ ТЕСТОВА КОМПАТИБИЛНОСТ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0-Rh-D</a:t>
            </a:r>
            <a:r>
              <a:rPr b="1" lang="sr-CS" sz="1800" spc="-1" strike="noStrike">
                <a:solidFill>
                  <a:srgbClr val="ffffcc"/>
                </a:solidFill>
                <a:latin typeface="Arial"/>
              </a:rPr>
              <a:t> НЕГАТИВНА КРВ или КОНЦЕНТРОВАНИ ЕРИТРОЦИТИ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CS" sz="1800" spc="-1" strike="noStrike">
                <a:solidFill>
                  <a:srgbClr val="ffffff"/>
                </a:solidFill>
                <a:latin typeface="Arial"/>
              </a:rPr>
              <a:t>Ако се да више од две дозе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-Rh-D </a:t>
            </a:r>
            <a:r>
              <a:rPr b="1" lang="sr-CS" sz="1800" spc="-1" strike="noStrike">
                <a:solidFill>
                  <a:srgbClr val="ffffff"/>
                </a:solidFill>
                <a:latin typeface="Arial"/>
              </a:rPr>
              <a:t>негативне крви, не треба наставити трансфузију крвном групом примаоца због могуће хемолизе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e5e5ff"/>
                </a:solidFill>
                <a:latin typeface="Arial"/>
              </a:rPr>
              <a:t>Крварење и хемостаз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ffffff"/>
                </a:solidFill>
                <a:uFillTx/>
                <a:latin typeface="Garamond"/>
              </a:rPr>
              <a:t>КРВАРЕЊЕ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-истицање крви из крвног суда спонтано или након траум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ffffff"/>
                </a:solidFill>
                <a:uFillTx/>
                <a:latin typeface="Garamond"/>
              </a:rPr>
              <a:t>КРВАРЕЊЕ </a:t>
            </a: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- АКУТНО И ХРОНИЧН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-СПОЉАШЊЕ И УНУТРАШЊ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-АРТЕРИЈСКО И ВЕНСК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-ЛОКАЛНО/ограничено/ и ДИФУЗН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e5e5ff"/>
                </a:solidFill>
                <a:latin typeface="Arial"/>
              </a:rPr>
              <a:t>Крварење и хемостаз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ffcc00"/>
                </a:solidFill>
                <a:latin typeface="Arial"/>
              </a:rPr>
              <a:t>КОНЗЕРВИСАНА КРВ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Arial"/>
              </a:rPr>
              <a:t>МЕШАВИНА КРВИ ДАВАОЦА И РАСТВОРА АНТИ-КОАГУЛАНСА-КОНЗЕРВАНСА у одређеном односу, са посебним адитивима или без њих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cc"/>
                </a:solidFill>
                <a:latin typeface="Arial"/>
              </a:rPr>
              <a:t>КОНЗЕРВИШЕ СЕ У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ffffcc"/>
                </a:solidFill>
                <a:latin typeface="Arial"/>
              </a:rPr>
              <a:t>СТАКЛЕНИМ БОЦАМ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ffffcc"/>
                </a:solidFill>
                <a:latin typeface="Arial"/>
              </a:rPr>
              <a:t>ПЛАСТИЧНИМ КЕСАМА</a:t>
            </a:r>
            <a:r>
              <a:rPr b="1" lang="sr-C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Arial"/>
              </a:rPr>
              <a:t>( пропуштају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2</a:t>
            </a:r>
            <a:r>
              <a:rPr b="1" lang="sr-CS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2</a:t>
            </a:r>
            <a:r>
              <a:rPr b="1" lang="sr-CS" sz="1800" spc="-1" strike="noStrike">
                <a:solidFill>
                  <a:srgbClr val="ffffff"/>
                </a:solidFill>
                <a:latin typeface="Arial"/>
              </a:rPr>
              <a:t>, одржавају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H</a:t>
            </a:r>
            <a:r>
              <a:rPr b="1" lang="sr-CS" sz="1800" spc="-1" strike="noStrike">
                <a:solidFill>
                  <a:srgbClr val="ffffff"/>
                </a:solidFill>
                <a:latin typeface="Arial"/>
              </a:rPr>
              <a:t>, смањују опасност од инфекције-издвајање састојка крви се остварује у затвореном систему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cc"/>
                </a:solidFill>
                <a:latin typeface="Arial"/>
              </a:rPr>
              <a:t>ЧУВА СЕ НА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4–2°C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e5e5ff"/>
                </a:solidFill>
                <a:latin typeface="Arial"/>
              </a:rPr>
              <a:t>Крварење и хемостаз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ПРИПРЕМА И ПРИМЕНА КОМПОНЕНАТА КРВИ И КРВНИХ ДЕРИВАТА СМАЊИЛА ЈЕ ВЕЛИКИ БРОЈ РИЗИКА КОЈЕ ТРАНСФУЗИЈА ПУНЕ КРВИ НОС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cc"/>
                </a:solidFill>
                <a:latin typeface="Arial"/>
              </a:rPr>
              <a:t>КРВНЕ КОМПОНЕНТЕ СУ ДЕО КРВИ КОЈИ ЈЕ ИЗДВОЈЕН НЕКИМ ОД ФИЗИЧКИХ ПОСТУПАК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cc"/>
                </a:solidFill>
                <a:latin typeface="Arial"/>
              </a:rPr>
              <a:t>ДЕРИВАТИ КРВИ СУ ПРОТЕИНСКИ ПРЕПАРАТИ ПРИПРЕМЉЕМИ ИЗ ПЛАЗМЕ НЕКИМ ОД ХЕМИЈСКИХ ИЛИ ФИЗИКОХЕМИЈСКИХ ПОСТУПАКА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e5e5ff"/>
                </a:solidFill>
                <a:latin typeface="Arial"/>
              </a:rPr>
              <a:t>Крварење и хемостаз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>
                <a:solidFill>
                  <a:srgbClr val="ffffcc"/>
                </a:solidFill>
                <a:latin typeface="Arial"/>
              </a:rPr>
              <a:t>ПУНА </a:t>
            </a:r>
            <a:r>
              <a:rPr b="1" i="1" lang="en-US" sz="3200" spc="-1" strike="noStrike">
                <a:solidFill>
                  <a:srgbClr val="ffffcc"/>
                </a:solidFill>
                <a:latin typeface="Arial"/>
              </a:rPr>
              <a:t>(</a:t>
            </a:r>
            <a:r>
              <a:rPr b="1" i="1" lang="sr-CS" sz="3200" spc="-1" strike="noStrike">
                <a:solidFill>
                  <a:srgbClr val="ffffcc"/>
                </a:solidFill>
                <a:latin typeface="Arial"/>
              </a:rPr>
              <a:t>ЦЕЛА</a:t>
            </a:r>
            <a:r>
              <a:rPr b="1" i="1" lang="en-US" sz="3200" spc="-1" strike="noStrike">
                <a:solidFill>
                  <a:srgbClr val="ffffcc"/>
                </a:solidFill>
                <a:latin typeface="Arial"/>
              </a:rPr>
              <a:t>) </a:t>
            </a:r>
            <a:r>
              <a:rPr b="1" i="1" lang="sr-CS" sz="3200" spc="-1" strike="noStrike">
                <a:solidFill>
                  <a:srgbClr val="ffffcc"/>
                </a:solidFill>
                <a:latin typeface="Arial"/>
              </a:rPr>
              <a:t>КР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Акутни губитак крви који води у хиповолемиски шок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Ексангвинотрансфузије у новорођенчад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Код кардиохируршких операциј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e5e5ff"/>
                </a:solidFill>
                <a:latin typeface="Arial"/>
              </a:rPr>
              <a:t>Крварење и хемостаз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 u="sng">
                <a:solidFill>
                  <a:srgbClr val="996600"/>
                </a:solidFill>
                <a:uFillTx/>
                <a:latin typeface="Arial"/>
              </a:rPr>
              <a:t>ДЕПЛАЗМАТИСАНА КРВ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Плазма уклоњена до вредности хематокрита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,6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 u="sng">
                <a:solidFill>
                  <a:srgbClr val="996600"/>
                </a:solidFill>
                <a:uFillTx/>
                <a:latin typeface="Arial"/>
              </a:rPr>
              <a:t>КОНЦЕНТРОВАНИ ЕРИТРОЦИТИ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Плазма уклоњена до вредности хематокрита од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,8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cc"/>
                </a:solidFill>
                <a:latin typeface="Arial"/>
              </a:rPr>
              <a:t>Уклањањем плазме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смањује се укупна запремина,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уклања се вишак цитрата, натријума, калијума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смањује се титар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ti-A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ti-B-aglutinina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(еритроцити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0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групе могу се дати као крв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универзалног даваоц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cc"/>
                </a:solidFill>
                <a:latin typeface="Arial"/>
              </a:rPr>
              <a:t>Једна доза концентрованих еритроцита повећава хемоглобина за 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10 g/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e5e5ff"/>
                </a:solidFill>
                <a:latin typeface="Arial"/>
              </a:rPr>
              <a:t>Крварење и хемостаз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ПРИМЕНА концентрованих еритроцит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Код болесника где је потребно повећати капацитет преноса кисеоник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У корекцији анемиј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Хемоглобин испод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0 g/l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 а болеснику следи операциј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Превентивно када је хемоглобин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 g/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e5e5ff"/>
                </a:solidFill>
                <a:latin typeface="Arial"/>
              </a:rPr>
              <a:t>Крварење као последица повреда меких и коштаних ткива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4005000"/>
            <a:ext cx="8229600" cy="21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Повреде</a:t>
            </a:r>
            <a:r>
              <a:rPr b="0" lang="sr-Latn-CS" sz="4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0" lang="sr-CS" sz="4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меких</a:t>
            </a:r>
            <a:r>
              <a:rPr b="0" lang="sr-Latn-CS" sz="4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0" lang="sr-CS" sz="4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ткив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тузије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шића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тива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рава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глобова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сторзије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глобова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стензије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шића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гамената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птуре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шића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тива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асција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кције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тив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 .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уксације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глобова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65040" indent="-255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Циљеви</a:t>
            </a:r>
            <a:r>
              <a:rPr b="0" lang="en-US" sz="4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0" lang="sr-CS" sz="4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лечењ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4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иљ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чења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езбеде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и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слови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ређеном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киву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растање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ме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рати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вобитна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ункција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то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аћем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ку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лечење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же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ићи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није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го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то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пуштају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иолошки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тенцијали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ређеног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кива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д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тог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цијент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Personality of injury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7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ред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киво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ређени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етман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руги</a:t>
            </a:r>
            <a:r>
              <a:rPr b="1" lang="sr-Latn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актори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Контузије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65040" indent="-255600">
              <a:lnSpc>
                <a:spcPct val="80000"/>
              </a:lnSpc>
              <a:spcBef>
                <a:spcPts val="10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епен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штећења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виси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наге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65040" indent="-255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дарца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ћи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е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д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65040" indent="-255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ређивања затегнутих него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65040" indent="-255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уштених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шић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65040" indent="-255600">
              <a:lnSpc>
                <a:spcPct val="80000"/>
              </a:lnSpc>
              <a:spcBef>
                <a:spcPts val="10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мптоми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: </a:t>
            </a:r>
            <a:r>
              <a:rPr b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ок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сту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дар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65040" indent="-255600">
              <a:lnSpc>
                <a:spcPct val="80000"/>
              </a:lnSpc>
              <a:spcBef>
                <a:spcPts val="10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вни</a:t>
            </a:r>
            <a:r>
              <a:rPr b="1" lang="sr-Latn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лив</a:t>
            </a:r>
            <a:r>
              <a:rPr b="1" lang="sr-Latn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 </a:t>
            </a:r>
            <a:r>
              <a:rPr b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матом</a:t>
            </a:r>
            <a:r>
              <a:rPr b="1" lang="sr-Latn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65040" indent="-255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e5e5ff"/>
                </a:solidFill>
                <a:latin typeface="Arial"/>
              </a:rPr>
              <a:t>Крварење и хемостаз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ACTORS 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mostas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Coagulation Casca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urgical hemostas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harmacolog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Content Placeholder 1" descr=""/>
          <p:cNvPicPr/>
          <p:nvPr/>
        </p:nvPicPr>
        <p:blipFill>
          <a:blip r:embed="rId1"/>
          <a:stretch/>
        </p:blipFill>
        <p:spPr>
          <a:xfrm>
            <a:off x="-44280" y="3408480"/>
            <a:ext cx="9196200" cy="3230280"/>
          </a:xfrm>
          <a:prstGeom prst="rect">
            <a:avLst/>
          </a:prstGeom>
          <a:ln w="0">
            <a:noFill/>
          </a:ln>
        </p:spPr>
      </p:pic>
      <p:pic>
        <p:nvPicPr>
          <p:cNvPr id="179" name="Title 2" descr=""/>
          <p:cNvPicPr/>
          <p:nvPr/>
        </p:nvPicPr>
        <p:blipFill>
          <a:blip r:embed="rId2"/>
          <a:stretch/>
        </p:blipFill>
        <p:spPr>
          <a:xfrm>
            <a:off x="0" y="219240"/>
            <a:ext cx="9151920" cy="292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Дистензија</a:t>
            </a:r>
            <a:r>
              <a:rPr b="0" lang="sr-Latn-CS" sz="4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r>
              <a:rPr b="0" lang="sr-Latn-CS" sz="4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0" lang="sr-CS" sz="4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Истегнуће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ненадна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тракција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шића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ећане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наге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дејству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ољашњим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лама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је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тежу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шиће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лу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ункционалну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упу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стаје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ликом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глог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пружања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шића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з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тракцију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тагонист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0099c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иничком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иком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минира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лазна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абост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ункције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нуса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шић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0099c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мптоматологија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е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главном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лага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рло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рзо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кве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реде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нирај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Лечење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ровање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колико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на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65040" indent="-25560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ладне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логе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иотерапија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,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алгетик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65040" indent="-25560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левација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65040" indent="-25560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вентуална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обилизациј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65040" indent="-25560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0" y="4572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Garamond"/>
              </a:rPr>
              <a:t>            </a:t>
            </a:r>
            <a:r>
              <a:rPr b="1" lang="sr-C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рцијална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птура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ишића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65040" indent="-25560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обилизација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ређеног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кстремитета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окална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пресија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ирења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матома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д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65040" indent="-25560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летна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птур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65040" indent="-25560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д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тпуних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кида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шића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ируршка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тервенција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конструкција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киданих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шић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65040" indent="-255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-255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Distorsio </a:t>
            </a:r>
            <a:br>
              <a:rPr sz="4000"/>
            </a:br>
            <a:r>
              <a:rPr b="0" lang="sr-Latn-CS" sz="4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0" lang="sr-CS" sz="4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Угануће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стављ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реду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псулолигаментарног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парат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глоб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след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убе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ханичке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ле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ј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води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контролисаног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крет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глобу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ји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лази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изиолошку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ницу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ластичност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65040" indent="-2556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оје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и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рсте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сторзиј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65040" indent="-25560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лонгацион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65040" indent="-25560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ацерационе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65040" indent="-25560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птурацион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65040" indent="-255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7" name="Picture 11" descr="koleno LCM"/>
          <p:cNvPicPr/>
          <p:nvPr/>
        </p:nvPicPr>
        <p:blipFill>
          <a:blip r:embed="rId1"/>
          <a:stretch/>
        </p:blipFill>
        <p:spPr>
          <a:xfrm>
            <a:off x="4022640" y="3657600"/>
            <a:ext cx="512136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Дијагноз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авља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-255600">
              <a:lnSpc>
                <a:spcPct val="80000"/>
              </a:lnSpc>
              <a:spcBef>
                <a:spcPts val="799"/>
              </a:spcBef>
              <a:buClr>
                <a:srgbClr val="c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амнезе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-255600">
              <a:lnSpc>
                <a:spcPct val="80000"/>
              </a:lnSpc>
              <a:spcBef>
                <a:spcPts val="799"/>
              </a:spcBef>
              <a:buClr>
                <a:srgbClr val="c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иничког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гледа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365040" indent="-2556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ТГ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нимак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же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каже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вентуални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вулзивни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л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-2556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зир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лазе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-25560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намична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G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65040" indent="-25560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RI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65040" indent="-25560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ртроскопија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65040" indent="-25560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ртрографија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365040" indent="-255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65040" indent="-255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Rectangle 1" descr=""/>
          <p:cNvPicPr/>
          <p:nvPr/>
        </p:nvPicPr>
        <p:blipFill>
          <a:blip r:embed="rId1"/>
          <a:stretch/>
        </p:blipFill>
        <p:spPr>
          <a:xfrm>
            <a:off x="-7920" y="1484280"/>
            <a:ext cx="9151920" cy="321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A6D60-B6C2-48F8-9D10-4D6CB482F5D0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Прелом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толошки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лом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 </a:t>
            </a:r>
            <a:r>
              <a:rPr b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сту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де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е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ст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лабљена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егзистирајућим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цесом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рес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лом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</a:t>
            </a:r>
            <a:r>
              <a:rPr b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стају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шеструким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јством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ле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ја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да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јединачно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лује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же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зрокује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лом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sr-Latn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мор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теријала</a:t>
            </a:r>
            <a:r>
              <a:rPr b="1" lang="sr-Latn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C71D2-6B14-40E8-A61A-D6E71239A12A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Прелом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пактирани</a:t>
            </a:r>
            <a:r>
              <a:rPr b="1" lang="fr-FR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ломи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исуре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вулзије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32D7E-AA21-47A6-98BD-CE187D6B9873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Прелом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кстринзични</a:t>
            </a:r>
            <a:r>
              <a:rPr b="1" lang="fr-FR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актори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тензитет</a:t>
            </a:r>
            <a:r>
              <a:rPr b="1" lang="fr-FR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ктор</a:t>
            </a:r>
            <a:r>
              <a:rPr b="1" lang="fr-FR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ле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тринзични</a:t>
            </a:r>
            <a:r>
              <a:rPr b="1" lang="fr-FR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актори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пацитет</a:t>
            </a:r>
            <a:r>
              <a:rPr b="1" lang="fr-FR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псорпције</a:t>
            </a:r>
            <a:r>
              <a:rPr b="1" lang="fr-FR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нергије</a:t>
            </a:r>
            <a:r>
              <a:rPr b="1" lang="fr-FR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дулус</a:t>
            </a:r>
            <a:r>
              <a:rPr b="1" lang="fr-FR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ластичности</a:t>
            </a:r>
            <a:r>
              <a:rPr b="1" lang="fr-FR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порност</a:t>
            </a:r>
            <a:r>
              <a:rPr b="1" lang="fr-FR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</a:t>
            </a:r>
            <a:r>
              <a:rPr b="1" lang="fr-FR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мор</a:t>
            </a:r>
            <a:r>
              <a:rPr b="1" lang="fr-FR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нзитет</a:t>
            </a:r>
            <a:r>
              <a:rPr b="1" lang="fr-FR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устина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fr-FR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сти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emostasi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cc"/>
                </a:solidFill>
                <a:uFillTx/>
                <a:latin typeface="Garamond"/>
              </a:rPr>
              <a:t>Primary Hemostas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900000" y="23493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e5ff"/>
                </a:solidFill>
                <a:latin typeface="Garamond"/>
              </a:rPr>
              <a:t>Arteriolar vasoconstric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e5ff"/>
                </a:solidFill>
                <a:latin typeface="Garamond"/>
              </a:rPr>
              <a:t>Formation of platelet plu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5"/>
          <p:cNvSpPr/>
          <p:nvPr/>
        </p:nvSpPr>
        <p:spPr>
          <a:xfrm flipV="1" rot="10800000">
            <a:off x="610920" y="3643920"/>
            <a:ext cx="439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cc"/>
                </a:solidFill>
                <a:uFillTx/>
                <a:latin typeface="Garamond"/>
              </a:rPr>
              <a:t>Secondary Hemostas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684360" y="4292640"/>
            <a:ext cx="799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e5ff"/>
                </a:solidFill>
                <a:latin typeface="Garamond"/>
              </a:rPr>
              <a:t>cascad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e5ff"/>
                </a:solidFill>
                <a:latin typeface="Garamond"/>
              </a:rPr>
              <a:t>Formation of permanent plu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e5ff"/>
                </a:solidFill>
                <a:latin typeface="Garamond"/>
              </a:rPr>
              <a:t>Activation of coagulatio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E7C13-7FDC-4C2D-B296-6E9DA8094F1E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Date Placeholder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C9DEF-52D0-469C-AF46-0BE98EC8B499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Преломи</a:t>
            </a:r>
            <a:r>
              <a:rPr b="0" lang="en-US" sz="4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0" lang="sr-CS" sz="4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настали</a:t>
            </a:r>
            <a:r>
              <a:rPr b="0" lang="en-US" sz="4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0" lang="sr-CS" sz="4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директним</a:t>
            </a:r>
            <a:r>
              <a:rPr b="0" lang="en-US" sz="4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0" lang="sr-CS" sz="4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ударцем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843440" y="1980720"/>
            <a:ext cx="43005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сте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а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ломе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нетрантне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реде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7" name="Picture 5" descr="mehaniyam preloma dir copy"/>
          <p:cNvPicPr/>
          <p:nvPr/>
        </p:nvPicPr>
        <p:blipFill>
          <a:blip r:embed="rId1"/>
          <a:stretch/>
        </p:blipFill>
        <p:spPr>
          <a:xfrm>
            <a:off x="0" y="1676520"/>
            <a:ext cx="491004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17C04-7D08-4467-BD0E-C01985E37FA0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Дијагноз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1" lang="sr-C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бро</a:t>
            </a:r>
            <a:r>
              <a:rPr b="1" lang="sr-Latn-C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зета</a:t>
            </a:r>
            <a:r>
              <a:rPr b="1" lang="sr-Latn-C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ђена</a:t>
            </a:r>
            <a:r>
              <a:rPr b="1" lang="sr-Latn-C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амнеза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c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ханизам</a:t>
            </a:r>
            <a:r>
              <a:rPr b="1" lang="sr-Latn-C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ређивања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шти</a:t>
            </a:r>
            <a:r>
              <a:rPr b="1" lang="sr-Latn-C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тус</a:t>
            </a:r>
            <a:r>
              <a:rPr b="1" lang="sr-Latn-C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цијента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окални</a:t>
            </a:r>
            <a:r>
              <a:rPr b="1" lang="sr-Latn-C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ла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E7350-6FA1-4CCB-AF4D-72036EF3C5B6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Клиничка</a:t>
            </a:r>
            <a:r>
              <a:rPr b="0" lang="sl-SI" sz="4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0" lang="sr-CS" sz="4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презентација</a:t>
            </a:r>
            <a:r>
              <a:rPr b="0" lang="sl-SI" sz="4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0" lang="sr-CS" sz="4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прелома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</a:t>
            </a:r>
            <a:r>
              <a:rPr b="1" lang="sl-SI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l-SI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етљивост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убитак</a:t>
            </a:r>
            <a:r>
              <a:rPr b="1" lang="sl-SI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ункције</a:t>
            </a:r>
            <a:r>
              <a:rPr b="1" lang="sl-SI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толошки</a:t>
            </a:r>
            <a:r>
              <a:rPr b="1" lang="sl-SI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крети</a:t>
            </a:r>
            <a:r>
              <a:rPr b="1" lang="sl-SI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l-SI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епитације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формитет</a:t>
            </a:r>
            <a:r>
              <a:rPr b="1" lang="sl-SI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краћење</a:t>
            </a:r>
            <a:r>
              <a:rPr b="1" lang="sl-SI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гулација</a:t>
            </a:r>
            <a:r>
              <a:rPr b="1" lang="sl-SI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ок</a:t>
            </a:r>
            <a:r>
              <a:rPr b="1" lang="sl-SI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... 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в</a:t>
            </a:r>
            <a:r>
              <a:rPr b="1" lang="sl-SI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пр</a:t>
            </a:r>
            <a:r>
              <a:rPr b="1" lang="sl-SI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vicula</a:t>
            </a:r>
            <a:r>
              <a:rPr b="1" lang="sl-SI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онтоид</a:t>
            </a:r>
            <a:r>
              <a:rPr b="1" lang="sl-SI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... 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E0EF5-BFE9-4DE3-95B7-8E46390D179D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0" lang="sr-CS" sz="4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Луксациј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шчашење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уксација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есте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убитак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ђусобног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такта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међу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ва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глобна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ла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о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глобна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ла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лимично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тичу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ње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зива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блуксациј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ловању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ле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глоб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же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стати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товремено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шчашењем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ргнуће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ла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сти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вулзија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тпуни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лом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сти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зв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уксацијски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лом</a:t>
            </a:r>
            <a:r>
              <a:rPr b="1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1CC16-2CE0-44D8-A07D-45DD58CB8679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Клиничка</a:t>
            </a:r>
            <a:r>
              <a:rPr b="0" lang="sl-SI" sz="4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0" lang="sr-CS" sz="4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презентација</a:t>
            </a:r>
            <a:r>
              <a:rPr b="0" lang="sl-SI" sz="4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0" lang="sr-CS" sz="4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луксациј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убитак</a:t>
            </a:r>
            <a:r>
              <a:rPr b="1" lang="sl-SI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крета</a:t>
            </a:r>
            <a:r>
              <a:rPr b="1" lang="sl-SI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 </a:t>
            </a:r>
            <a:r>
              <a:rPr b="1" lang="sr-C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едерирајући</a:t>
            </a:r>
            <a:r>
              <a:rPr b="1" lang="sl-SI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пор</a:t>
            </a:r>
            <a:r>
              <a:rPr b="1" lang="sl-SI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)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формитет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в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B3E53-8E50-436D-B42D-57C4C914E55A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Третман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0" y="175212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sr-C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марно</a:t>
            </a:r>
            <a:r>
              <a:rPr b="1" lang="sl-SI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брињавање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финитивно</a:t>
            </a:r>
            <a:r>
              <a:rPr b="1" lang="sl-SI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брињавање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хабилитација</a:t>
            </a:r>
            <a:r>
              <a:rPr b="1" lang="en-US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6E13B-920D-4FF1-9B7B-3EEFBFF5EFCF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Имобилизација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речити</a:t>
            </a:r>
            <a:r>
              <a:rPr b="1" lang="sl-SI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ље</a:t>
            </a:r>
            <a:r>
              <a:rPr b="1" lang="sl-SI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ређивање</a:t>
            </a:r>
            <a:r>
              <a:rPr b="1" lang="sl-SI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ких</a:t>
            </a:r>
            <a:r>
              <a:rPr b="1" lang="sl-SI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кива</a:t>
            </a:r>
            <a:r>
              <a:rPr b="1" lang="sl-SI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sl-SI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вни</a:t>
            </a:r>
            <a:r>
              <a:rPr b="1" lang="sl-SI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дови</a:t>
            </a:r>
            <a:r>
              <a:rPr b="1" lang="sl-SI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рви</a:t>
            </a:r>
            <a:r>
              <a:rPr b="1" lang="sl-SI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жа</a:t>
            </a:r>
            <a:r>
              <a:rPr b="1" lang="sl-SI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... 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мањује</a:t>
            </a:r>
            <a:r>
              <a:rPr b="1" lang="sl-SI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мањује</a:t>
            </a:r>
            <a:r>
              <a:rPr b="1" lang="sl-SI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изик</a:t>
            </a:r>
            <a:r>
              <a:rPr b="1" lang="sl-SI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</a:t>
            </a:r>
            <a:r>
              <a:rPr b="1" lang="sl-SI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ока</a:t>
            </a:r>
            <a:r>
              <a:rPr b="1" lang="sl-SI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l-SI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сне</a:t>
            </a:r>
            <a:r>
              <a:rPr b="1" lang="sl-SI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мболије</a:t>
            </a:r>
            <a:r>
              <a:rPr b="1" lang="sl-SI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sl-SI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 ARDS 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лакшава</a:t>
            </a:r>
            <a:r>
              <a:rPr b="1" lang="sl-SI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анспорт</a:t>
            </a:r>
            <a:r>
              <a:rPr b="1" lang="sl-SI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l-SI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јагностичке</a:t>
            </a:r>
            <a:r>
              <a:rPr b="1" lang="sl-SI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цедур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F6248-CB44-43F9-9857-50E5A849BAA4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Date Placeholder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Дефинитивни</a:t>
            </a:r>
            <a:r>
              <a:rPr b="0" lang="en-US" sz="4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0" lang="sr-CS" sz="4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третман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зервативно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еративно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C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чење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emostasi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2203560" y="1125360"/>
            <a:ext cx="398304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emostasi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2149560" y="1197000"/>
            <a:ext cx="48528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emostasi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1280" y="981000"/>
            <a:ext cx="807552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Coagulation Casca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1"/>
          <a:stretch/>
        </p:blipFill>
        <p:spPr>
          <a:xfrm>
            <a:off x="2124000" y="1413000"/>
            <a:ext cx="50022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emostasi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ti-Coagulant / Fibrinolytic mechanis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684360" y="2835360"/>
            <a:ext cx="6173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Antithrombin III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Protein C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Plasmi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emostasi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1692360" y="1125360"/>
            <a:ext cx="511164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8T19:53:20Z</dcterms:created>
  <dc:creator>Dragce Radovanovic</dc:creator>
  <dc:description/>
  <dc:language>en-US</dc:language>
  <cp:lastModifiedBy>XP</cp:lastModifiedBy>
  <dcterms:modified xsi:type="dcterms:W3CDTF">2015-04-22T08:47:03Z</dcterms:modified>
  <cp:revision>98</cp:revision>
  <dc:subject/>
  <dc:title>Slide 1</dc:title>
</cp:coreProperties>
</file>